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922-C3EB-433F-889B-EB2FC2D3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7F8-BEC2-4CC6-A761-61F5A4EC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929-2251-4106-ADC2-E6CE90B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3F3-57FC-41B8-8B16-8F17A42F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15B-48E5-413A-88BC-D592926F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92B-D8A1-4F12-BEFC-A589033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FC4-A894-44C5-A16B-6FD8C7D6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170-44A7-4A13-B28E-24878AE9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C28-F293-48CE-8440-99B01CB6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64A-59E6-4AAF-8EA8-ACCF398B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342-7CAC-4560-8829-CCB98AF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72D-5E42-48BF-9124-7722E72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A6E9-F67F-4DF6-B9DE-F1F20DC52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609480"/>
            <a:ext cx="7696080" cy="861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3366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The Pig and the Meat</a:t>
            </a:r>
            <a:endParaRPr b="0" lang="en-US" sz="1800" spc="1" strike="noStrike">
              <a:ln w="50760">
                <a:solidFill>
                  <a:srgbClr val="003366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45720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les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/9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5486400"/>
            <a:ext cx="21333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man ran into a phone pole he thought but it was a pole but it was Jake and Dann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flipH="1" rot="16200000">
            <a:off x="-298080" y="3422520"/>
            <a:ext cx="4647960" cy="1612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1524240" cy="1374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267080" y="5105520"/>
            <a:ext cx="46483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nny and Jake eat Old man My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 flipH="1" rot="19949400">
            <a:off x="304200" y="4800240"/>
            <a:ext cx="3200400" cy="1111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rot="304800">
            <a:off x="5410080" y="3047760"/>
            <a:ext cx="3505320" cy="117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581280" y="3048120"/>
            <a:ext cx="152424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anny and Jake lived happily ever aft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flipH="1" rot="19939800">
            <a:off x="457200" y="4876560"/>
            <a:ext cx="3200400" cy="1110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1713600">
            <a:off x="5029200" y="4800240"/>
            <a:ext cx="312408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or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hat others take may get others ma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ny (allig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e (Vultur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my (P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(allig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les (Old Man Far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712880" cy="1941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5029200"/>
            <a:ext cx="2971800" cy="158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791320" y="5029200"/>
            <a:ext cx="2819160" cy="1498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724280" y="1676520"/>
            <a:ext cx="143208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629400" y="457200"/>
            <a:ext cx="2063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once was a pig named Jimmy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286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mmy kept stealing the alligators food which was meat and the alligators ro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286380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2133360" cy="1581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4114800" cy="1498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952880" y="4191120"/>
            <a:ext cx="4191120" cy="149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3809880"/>
            <a:ext cx="3808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4117320" y="3806640"/>
            <a:ext cx="106056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5400000">
            <a:off x="3279600" y="3806640"/>
            <a:ext cx="10602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5400000">
            <a:off x="4270320" y="2739600"/>
            <a:ext cx="106056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e and Danny the alligator brothers cased Jim pig away everyday and Jim pig oink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09680" y="2666880"/>
            <a:ext cx="171792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514600" y="4038480"/>
            <a:ext cx="1066680" cy="79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410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89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se the 1 eye vulture saw Jim pig and at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6200000">
            <a:off x="3139920" y="2346120"/>
            <a:ext cx="1720800" cy="2667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10080" y="990720"/>
            <a:ext cx="2063880" cy="3962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16200000">
            <a:off x="3900240" y="3185640"/>
            <a:ext cx="10666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les the old man farmer went looking for Jim pig one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504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t Old man was blind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504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31:58Z</dcterms:created>
  <dc:creator>install</dc:creator>
  <dc:description/>
  <dc:language>en-US</dc:language>
  <cp:lastModifiedBy>install</cp:lastModifiedBy>
  <dcterms:modified xsi:type="dcterms:W3CDTF">2010-12-17T16:53:18Z</dcterms:modified>
  <cp:revision>10</cp:revision>
  <dc:subject/>
  <dc:title>Slide 1</dc:title>
</cp:coreProperties>
</file>